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6F5-CBD4-42EF-9738-5C015F7F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4F1-5BC0-423B-AFE7-22A2C75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ACF-CA37-4F02-A980-2A6DE0BD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50F-175A-4214-97FE-79D75968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7AF-667D-4DB3-9683-723858ED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7AE-83C1-439B-B528-C7A47A0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E1A-A574-47B6-A668-EA09223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496-B09D-4C34-BAAD-F3C50D53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8B6-005D-4E27-BDAB-C88BB18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192-F695-4A82-8C2A-CA7221C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6C2-D538-4CFA-8943-FE5240E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766-CAF3-4856-812D-29510A8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9AA-DFFC-48AD-B660-C2A733C7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10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1280" y="2685960"/>
            <a:ext cx="3506760" cy="1087560"/>
          </a:xfrm>
          <a:custGeom>
            <a:avLst/>
            <a:gdLst/>
            <a:ahLst/>
            <a:rect l="l" t="t" r="r" b="b"/>
            <a:pathLst>
              <a:path w="2209" h="685">
                <a:moveTo>
                  <a:pt x="2208" y="342"/>
                </a:moveTo>
                <a:lnTo>
                  <a:pt x="1104" y="684"/>
                </a:lnTo>
                <a:lnTo>
                  <a:pt x="0" y="342"/>
                </a:lnTo>
                <a:lnTo>
                  <a:pt x="1104" y="0"/>
                </a:lnTo>
                <a:lnTo>
                  <a:pt x="2208" y="34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514680" y="271440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3228840"/>
            <a:ext cx="343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43240" y="2857680"/>
            <a:ext cx="1047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1360" y="2828880"/>
            <a:ext cx="9504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28880" y="3514320"/>
            <a:ext cx="95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543480"/>
            <a:ext cx="11448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282240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70080" y="329868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65360" y="295596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70360" y="294624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138400"/>
            <a:ext cx="3085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7920" y="29275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8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0" y="3651120"/>
            <a:ext cx="1460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3320" y="2647800"/>
            <a:ext cx="1706400" cy="1068480"/>
          </a:xfrm>
          <a:custGeom>
            <a:avLst/>
            <a:gdLst/>
            <a:ahLst/>
            <a:rect l="l" t="t" r="r" b="b"/>
            <a:pathLst>
              <a:path w="1075" h="673">
                <a:moveTo>
                  <a:pt x="0" y="0"/>
                </a:moveTo>
                <a:lnTo>
                  <a:pt x="1074" y="0"/>
                </a:lnTo>
                <a:lnTo>
                  <a:pt x="1074" y="672"/>
                </a:lnTo>
                <a:lnTo>
                  <a:pt x="0" y="67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38360" y="3095640"/>
            <a:ext cx="801720" cy="801720"/>
          </a:xfrm>
          <a:custGeom>
            <a:avLst/>
            <a:gdLst/>
            <a:ahLst/>
            <a:rect l="l" t="t" r="r" b="b"/>
            <a:pathLst>
              <a:path w="505" h="505">
                <a:moveTo>
                  <a:pt x="0" y="0"/>
                </a:moveTo>
                <a:lnTo>
                  <a:pt x="504" y="0"/>
                </a:lnTo>
                <a:lnTo>
                  <a:pt x="504" y="504"/>
                </a:lnTo>
                <a:lnTo>
                  <a:pt x="0" y="50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4160" y="3476520"/>
            <a:ext cx="19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19240" y="295272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486240"/>
            <a:ext cx="26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90800" y="379080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4120" y="297504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81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b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7720" y="2581200"/>
            <a:ext cx="2297160" cy="925560"/>
          </a:xfrm>
          <a:custGeom>
            <a:avLst/>
            <a:gdLst/>
            <a:ahLst/>
            <a:rect l="l" t="t" r="r" b="b"/>
            <a:pathLst>
              <a:path w="1447" h="583">
                <a:moveTo>
                  <a:pt x="0" y="582"/>
                </a:moveTo>
                <a:lnTo>
                  <a:pt x="325" y="0"/>
                </a:lnTo>
                <a:lnTo>
                  <a:pt x="1446" y="0"/>
                </a:lnTo>
                <a:lnTo>
                  <a:pt x="1121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2581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282240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256536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72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2352600"/>
            <a:ext cx="2278080" cy="925560"/>
          </a:xfrm>
          <a:custGeom>
            <a:avLst/>
            <a:gdLst/>
            <a:ahLst/>
            <a:rect l="l" t="t" r="r" b="b"/>
            <a:pathLst>
              <a:path w="1435" h="583">
                <a:moveTo>
                  <a:pt x="1434" y="581"/>
                </a:moveTo>
                <a:lnTo>
                  <a:pt x="0" y="582"/>
                </a:lnTo>
                <a:lnTo>
                  <a:pt x="717" y="0"/>
                </a:lnTo>
                <a:lnTo>
                  <a:pt x="1434" y="5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35260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114720"/>
            <a:ext cx="13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6400" y="3114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9560" y="367020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70320" y="2327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0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7000" y="2381400"/>
            <a:ext cx="2678040" cy="1106280"/>
          </a:xfrm>
          <a:custGeom>
            <a:avLst/>
            <a:gdLst/>
            <a:ahLst/>
            <a:rect l="l" t="t" r="r" b="b"/>
            <a:pathLst>
              <a:path w="1687" h="697">
                <a:moveTo>
                  <a:pt x="0" y="696"/>
                </a:moveTo>
                <a:lnTo>
                  <a:pt x="337" y="0"/>
                </a:lnTo>
                <a:lnTo>
                  <a:pt x="1349" y="0"/>
                </a:lnTo>
                <a:lnTo>
                  <a:pt x="1686" y="696"/>
                </a:lnTo>
                <a:lnTo>
                  <a:pt x="0" y="6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33760" y="2381400"/>
            <a:ext cx="0" cy="10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36226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4280" y="18604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1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08480" y="240336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39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24120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rect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2095560"/>
            <a:ext cx="291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2405160"/>
            <a:ext cx="1709640" cy="170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9360" y="26028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tri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2840" y="2538360"/>
            <a:ext cx="2441880" cy="2335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3680" y="34596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larg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small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640" y="3143160"/>
            <a:ext cx="2554200" cy="868320"/>
          </a:xfrm>
          <a:custGeom>
            <a:avLst/>
            <a:gdLst/>
            <a:ahLst/>
            <a:rect l="l" t="t" r="r" b="b"/>
            <a:pathLst>
              <a:path w="1609" h="547">
                <a:moveTo>
                  <a:pt x="0" y="0"/>
                </a:moveTo>
                <a:lnTo>
                  <a:pt x="1608" y="0"/>
                </a:lnTo>
                <a:lnTo>
                  <a:pt x="1608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22360" y="4165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1320" y="33274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241200"/>
            <a:ext cx="740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are the sha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of the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 of the rect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What is the overall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90840" y="3457440"/>
            <a:ext cx="1839600" cy="639720"/>
          </a:xfrm>
          <a:custGeom>
            <a:avLst/>
            <a:gdLst/>
            <a:ahLst/>
            <a:rect l="l" t="t" r="r" b="b"/>
            <a:pathLst>
              <a:path w="1159" h="403">
                <a:moveTo>
                  <a:pt x="0" y="0"/>
                </a:moveTo>
                <a:lnTo>
                  <a:pt x="1158" y="0"/>
                </a:lnTo>
                <a:lnTo>
                  <a:pt x="1158" y="402"/>
                </a:lnTo>
                <a:lnTo>
                  <a:pt x="0" y="40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581120" y="2695680"/>
            <a:ext cx="15145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5640" y="2695680"/>
            <a:ext cx="32400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76560" y="2695680"/>
            <a:ext cx="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43360" y="333360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43360" y="3333600"/>
            <a:ext cx="0" cy="1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3120" y="409896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3160" y="359424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6920" y="292752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5760" y="2733840"/>
            <a:ext cx="982800" cy="98244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0" y="0"/>
                </a:moveTo>
                <a:lnTo>
                  <a:pt x="618" y="0"/>
                </a:lnTo>
                <a:lnTo>
                  <a:pt x="618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16224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2040" y="257184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5960" y="32385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2960" y="3629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9462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560" y="2790720"/>
            <a:ext cx="3516480" cy="925560"/>
          </a:xfrm>
          <a:custGeom>
            <a:avLst/>
            <a:gdLst/>
            <a:ahLst/>
            <a:rect l="l" t="t" r="r" b="b"/>
            <a:pathLst>
              <a:path w="2215" h="583">
                <a:moveTo>
                  <a:pt x="0" y="582"/>
                </a:moveTo>
                <a:lnTo>
                  <a:pt x="498" y="0"/>
                </a:lnTo>
                <a:lnTo>
                  <a:pt x="2214" y="0"/>
                </a:lnTo>
                <a:lnTo>
                  <a:pt x="1716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905200"/>
            <a:ext cx="24382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714840" y="3086280"/>
            <a:ext cx="9504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086280"/>
            <a:ext cx="200160" cy="1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79880" y="30034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374652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94040" y="2994120"/>
            <a:ext cx="92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2438280"/>
            <a:ext cx="2887560" cy="1535400"/>
          </a:xfrm>
          <a:custGeom>
            <a:avLst/>
            <a:gdLst/>
            <a:ahLst/>
            <a:rect l="l" t="t" r="r" b="b"/>
            <a:pathLst>
              <a:path w="1819" h="967">
                <a:moveTo>
                  <a:pt x="1818" y="965"/>
                </a:moveTo>
                <a:lnTo>
                  <a:pt x="0" y="966"/>
                </a:lnTo>
                <a:lnTo>
                  <a:pt x="910" y="0"/>
                </a:lnTo>
                <a:lnTo>
                  <a:pt x="1818" y="96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76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14760" y="376236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76236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41846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46320" y="3203640"/>
            <a:ext cx="831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009960"/>
            <a:ext cx="2868480" cy="887400"/>
          </a:xfrm>
          <a:custGeom>
            <a:avLst/>
            <a:gdLst/>
            <a:ahLst/>
            <a:rect l="l" t="t" r="r" b="b"/>
            <a:pathLst>
              <a:path w="1807" h="559">
                <a:moveTo>
                  <a:pt x="0" y="0"/>
                </a:moveTo>
                <a:lnTo>
                  <a:pt x="1806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09600" y="376236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7623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41560" y="39560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8400" y="3260880"/>
            <a:ext cx="81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14520" y="3095640"/>
            <a:ext cx="2239920" cy="1287360"/>
          </a:xfrm>
          <a:custGeom>
            <a:avLst/>
            <a:gdLst/>
            <a:ahLst/>
            <a:rect l="l" t="t" r="r" b="b"/>
            <a:pathLst>
              <a:path w="1411" h="811">
                <a:moveTo>
                  <a:pt x="0" y="810"/>
                </a:moveTo>
                <a:lnTo>
                  <a:pt x="282" y="0"/>
                </a:lnTo>
                <a:lnTo>
                  <a:pt x="1128" y="0"/>
                </a:lnTo>
                <a:lnTo>
                  <a:pt x="1410" y="810"/>
                </a:lnTo>
                <a:lnTo>
                  <a:pt x="0" y="81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62320" y="3095640"/>
            <a:ext cx="8568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17204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3040" y="41720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27400" y="25272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4960" y="458460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0320" y="34131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7520" y="241200"/>
            <a:ext cx="637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440" y="1908000"/>
            <a:ext cx="311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241200"/>
            <a:ext cx="7670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. What is the circumfence formul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. What is the circumferen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120" y="1822320"/>
            <a:ext cx="31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3:12Z</dcterms:created>
  <dc:creator>udsd</dc:creator>
  <dc:description/>
  <dc:language>en-US</dc:language>
  <cp:lastModifiedBy>udsd</cp:lastModifiedBy>
  <dcterms:modified xsi:type="dcterms:W3CDTF">2009-03-10T18:03:14Z</dcterms:modified>
  <cp:revision>1</cp:revision>
  <dc:subject/>
  <dc:title>Slide 1</dc:title>
</cp:coreProperties>
</file>